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72B-6B1A-4E7C-BE94-BC66A016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86D-78F6-4F89-B5A1-B5CAA80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7B0-408E-40B6-99B6-D4EC96AC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AE0-0733-4F58-AD1D-8AD49E49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BA0-CF39-4F01-A58D-05BD5126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0D7-9377-4B55-A495-3F5EE7E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4B3-4E0C-4BB5-9AA4-D097B236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ADC-13B4-4500-AEA6-F3F98C7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EE3-2BB6-4562-BF13-A4BB680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77-6D12-40AA-8BC1-1E0168C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815-0025-47B9-BCF7-4D727611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CFD-C737-4F80-88E4-AACDA6B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479-9259-44F7-8D2E-7650FEFAFAD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The Systems Model For Indust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nputs/Processes/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emeraldinsight.com/content_images/fig/0680130505002.png"/>
          <p:cNvPicPr/>
          <p:nvPr/>
        </p:nvPicPr>
        <p:blipFill>
          <a:blip r:embed="rId1"/>
          <a:stretch/>
        </p:blipFill>
        <p:spPr>
          <a:xfrm>
            <a:off x="179280" y="1773360"/>
            <a:ext cx="8829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nputs/Processes/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divided into two group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naturally occurring things such as water, raw materials and the 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ltural 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ings like money, labour, and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e actions within the industry that change the raw materials into the finished product. For instance, all the processes needed to change pieces of wood into a ch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pu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negative or positive, although they are usually the latter. Negative outputs include waste products, such as off-cuts. The positive outputs are the finished product and the money gained from the sale of that produ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what is put back into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two examples of this are money, from the sale of the finished product, and knowledge, gained from the whole manufacturing pro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nowledge could then be used to make the product better of improve the efficiency of the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53:22Z</dcterms:created>
  <dc:creator>Dell_02</dc:creator>
  <dc:description/>
  <dc:language>en-US</dc:language>
  <cp:lastModifiedBy>Dell_02</cp:lastModifiedBy>
  <dcterms:modified xsi:type="dcterms:W3CDTF">2011-01-27T03:05:48Z</dcterms:modified>
  <cp:revision>2</cp:revision>
  <dc:subject/>
  <dc:title>The Systems Model For Industry</dc:title>
</cp:coreProperties>
</file>